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8D2-9DDF-4E0C-92EB-0DD0EA5A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D58-063F-4EFD-9652-5738C3E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255-AEA4-4701-9FD6-5BA80DE5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6FD-158A-4643-988C-3858E27F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6383-5E49-4797-981F-AF1F04CC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C2FE-8239-4EBD-B51E-6740B0AB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535C-0531-4E3B-86C5-0691C183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AC93-C371-4BA4-B73A-62CEBCB7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764E-686E-47E1-81A0-16B331A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E347-5F54-4096-A3BD-DF556B4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9BC4-E165-40D2-A075-7F3BD1C1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7CF-F957-4FF6-B7A5-289C2318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D02A-5EF5-4DB3-9190-7148F345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8A5C-9287-4287-927E-DF9003BF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F03C-C700-4F66-9D82-602F19C0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E795-9B7A-477F-9273-53B93A50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BC01-A3A8-402A-983B-CD6C8582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84F-AA8B-4F0F-A64B-A633CE59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A83-27BF-4BF7-80E4-30C22A0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411-6E82-4D5C-B940-B6F175A1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D8F-D1FF-46A2-83E4-58BE65F0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765-0F18-482D-80C2-7DE5803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71F-F2EA-4AC6-B3E3-E2F72905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36A-E86F-43FD-BF18-334EF07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FB6E-CA1D-4972-BF47-7ACCB0B652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FAF3-6C2D-4555-A4DD-97E78E0B9D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arrollo de Aplicaciones Web en Plataforma Ja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né Díaz Monteneg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tubre de 200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s Ejercic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páginas jsp (Java Server Page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Servlet y páginas JSP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res capas, implementación de conectividad a base de datos usando JSP – Servlet y DB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un documento HTML,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inicio.html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ormulario con dos campos de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Destino del formulario: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respuesta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la página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respuesta.jsp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cibir formul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catenar ambas palabr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viarlas a pantall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mplearemos el mismo documento,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nicio.html.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destino del formulario debe ser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ConcatenaServl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el Servlet ConcatenaServlet.jav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imos el formul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catenamos las palabr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samos un bean para enviar el resul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la página respuesta2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e el bean con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pliega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7:18:45Z</dcterms:created>
  <dc:creator>rdm.gral</dc:creator>
  <dc:description/>
  <dc:language>en-US</dc:language>
  <cp:lastModifiedBy>rdm.gral</cp:lastModifiedBy>
  <dcterms:modified xsi:type="dcterms:W3CDTF">2004-10-26T17:45:36Z</dcterms:modified>
  <cp:revision>1</cp:revision>
  <dc:subject/>
  <dc:title>Desarrollo de Aplicaciones Web en Plataforma Java</dc:title>
</cp:coreProperties>
</file>